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B47-8487-4754-BC31-1B12FF7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96F-478A-4892-85FE-DAD61F6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E05-69D3-49BA-9520-8FD90DD3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4A0-E24E-4C8E-9F41-2398CECE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AE4-CFBE-4598-95C8-6E3CC4F7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D43-FCB8-4BAE-8B7F-B7D4409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B72-E6AB-4806-8FB5-7F7641B1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0C9-4BD7-4B4B-B3D7-E1971E0F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BB3-28E2-4354-BBA8-E42F73F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F9C-E846-4412-A10D-4F2C0BA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77F-5CFE-44F8-9214-2213455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36B-F095-4045-A571-E331A17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C37F-A27E-49C8-AC0C-14B0B367E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3500280"/>
            <a:ext cx="565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قر بان المقد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280" y="4190760"/>
            <a:ext cx="58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وتَ الأنفس القدسية 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ربونَ المجد الأبد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00" y="1844640"/>
            <a:ext cx="115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زادَ الذين يموتون بالر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549360"/>
            <a:ext cx="579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4226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4309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9280" y="809640"/>
            <a:ext cx="608472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72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60280"/>
            <a:ext cx="6084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3280" y="3182760"/>
            <a:ext cx="59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7200"/>
            </a:br>
            <a:br>
              <a:rPr sz="60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َ السماءِ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إلهاً مكنون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307520" y="3573360"/>
            <a:ext cx="1337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4000" y="332712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نطةَ المختار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مراً مونِعَ العذارى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دائ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قدمةً طاهر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روفاً بلا عيب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68800" y="2421000"/>
            <a:ext cx="125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دَسِماً ونعيمَ الملكو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360" y="3254040"/>
            <a:ext cx="50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ائدة نقيّ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طعامَ الملائ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نّاً مخفيّ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رَ عجائبَ ا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جوهري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متجسّد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08000" y="3398760"/>
            <a:ext cx="521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حالاً في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دس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أس البر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إيما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اً عظيم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مقدس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00" y="2822400"/>
            <a:ext cx="49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غفرةً حقيق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َ الخطاي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آيةً عجي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ِرَ آلام المسيح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طية تام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5695920"/>
            <a:ext cx="98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ذكارَ المحبةِ الإله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4000" y="325404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ً لعدم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فيضَ كثرة النع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اً مرهوباً ومحيياً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بلا د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 ومضيف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36920" y="3500280"/>
            <a:ext cx="12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صار جسداً بقدرة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3213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تقوى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رباطَ 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رّ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لاوةً روح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685800" y="189000"/>
            <a:ext cx="1210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ً حلوة تخدمها الملائك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Charbel Azar</cp:lastModifiedBy>
  <dcterms:modified xsi:type="dcterms:W3CDTF">2002-07-29T20:51:10Z</dcterms:modified>
  <cp:revision>8</cp:revision>
  <dc:subject/>
  <dc:title>كيرياليسون، كريستياليسون، كيرياليسون  يا ربنا يسوع المسيح أنصت إلينا  إستجبنا </dc:title>
</cp:coreProperties>
</file>